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CD6-516C-4419-97D4-68DC586B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479-49EB-4D71-ACF7-30CEFF3EB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9306-5080-41E9-A7D3-E52F424E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EB57-E306-421C-8DF8-95B410FB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E769-F3E5-40CD-989B-974C5CFBF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30E0-A2E6-4EA8-AD20-E360A4E7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04C-3A77-43AB-9DE8-1AE996B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6C0-BFE3-41C6-92FA-821C4A9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D0B-E4DC-4B46-9707-FCEA98D7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3EC-B9C1-422D-BF52-5153471C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6840" indent="0" algn="ctr">
              <a:lnSpc>
                <a:spcPct val="87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DF0-194D-4FF5-8500-E8773282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081-10F3-414D-A843-723CD730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675-75BD-484B-8BA6-16926E9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78C-E3D0-4972-B211-E7C72F50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6840"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DB4-430C-4A8D-86DD-9C836F6D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A89-520F-4DE3-A47F-DE31BC9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5E4-F79C-4B22-B922-CF86545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744-7873-42AC-9B76-023F063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2937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028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19548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19368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57320" indent="-1983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57320" indent="-1983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57320" indent="-198360">
              <a:lnSpc>
                <a:spcPct val="87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58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08C1-8901-44D0-80E7-D1977F0328C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25160" y="1835280"/>
            <a:ext cx="6453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Verdana"/>
              </a:rPr>
              <a:t>Lead Me to the Rock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88720" y="4419720"/>
            <a:ext cx="235404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salm 61:1-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0880" y="49528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ar my cry, O God; listen to my prayer.  From the ends of the earth I call to you, I call as my heart grows faint; lead me to the rock that is higher than I.  For you have been my refuge, a strong tower against the fo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53680" y="1770120"/>
            <a:ext cx="618228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448280" y="1295280"/>
            <a:ext cx="61822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ear my cry O God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answer my pray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52960" y="1295280"/>
            <a:ext cx="61822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I'll take refuge 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the shelter of your w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453680" y="1765440"/>
            <a:ext cx="6182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I'll fulfill my vows, day after da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 higher than 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ead me to the rock that i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higher than 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You're my tower against the fo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3:16:06Z</dcterms:created>
  <dc:creator>Pete Wade</dc:creator>
  <dc:description/>
  <dc:language>en-US</dc:language>
  <cp:lastModifiedBy>Peter</cp:lastModifiedBy>
  <dcterms:modified xsi:type="dcterms:W3CDTF">2010-04-10T19:21:19Z</dcterms:modified>
  <cp:revision>30</cp:revision>
  <dc:subject/>
  <dc:title>Slide 1</dc:title>
</cp:coreProperties>
</file>